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E1F-7DAB-4CE5-BA6B-852D0408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850-3904-4863-BBA8-304E823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BCE-AC32-4F16-9B99-F4FE5BEE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C75-7CB0-4D71-82EC-34F16F62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D8D-37EF-43BB-92EB-16C2F42E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F1A-F34C-4493-88AE-CAF88A55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EA73-E414-4F12-A254-5F73DC8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35E-1AB2-47CF-BF40-F4098C9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F4B-CAEF-4E22-82B9-75E483B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5CA-9DBC-4404-8DB2-BBBBE80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DA37-588B-44D6-A7D4-385EB51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FC6-AA57-4B75-BB8A-B904C92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A1F8-C866-4814-B145-F002394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2E1-F52E-4882-8006-848FC8B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6EA-B858-4480-878C-3199A75B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594E-692D-48D6-9054-1276F36B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F2EE-BB69-4C5B-B5CC-91ECF541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DD1-69F8-4EA9-B9E6-B3ABB70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1E9-926E-490C-A3A4-18BAD0C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AF6-3F8E-496D-A9A3-C0463CEC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76C-B173-4539-9A85-B52C3AC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E76-0B83-4156-AF68-EF3FA3B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A8B-F25B-492B-AF7B-4A3D873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17C-39FA-47E0-B969-9CE8F804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28A0-1FDF-4FB2-83B5-837B76010C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245-7DD5-40A9-95F0-168FA3B1A46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29000" y="3657600"/>
            <a:ext cx="2133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 el centro comercia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2666880"/>
            <a:ext cx="6933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Antonio en 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592360"/>
            <a:ext cx="3809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286000"/>
            <a:ext cx="5715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mocion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 __________ a mis abuelos que vienen a visitarnos en el aeropuer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200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28600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está mi libro?  No l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962520"/>
            <a:ext cx="2971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 buen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cine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a excelent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362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gimnasio para jug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 ir 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rcado.  ¿Quie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compañarn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1244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lculad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666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 en mi cam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3623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impres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omputadoras allí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00 dólares cad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libro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lapic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a eso de 1 dólar, cre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ocho horas cad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666880"/>
            <a:ext cx="5943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nunc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l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ase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 los sábad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anuel siemp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ando está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438280"/>
            <a:ext cx="6705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rato por la tarde si es posib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mis amigos en el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lápiz en el suel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nfannoney</cp:lastModifiedBy>
  <dcterms:modified xsi:type="dcterms:W3CDTF">2009-02-02T18:16:34Z</dcterms:modified>
  <cp:revision>3</cp:revision>
  <dc:subject/>
  <dc:title>No Slide Title</dc:title>
</cp:coreProperties>
</file>